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6F84-DCC4-4482-8108-5D6D9CB4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037-C90F-44DC-94BD-8D59BA01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20E-0EDD-4D79-84EC-46C5811E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6D6-7358-4877-8A29-94E17373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65DB-F953-421F-BB88-A3333AFC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39D2-AEC5-4E53-B18C-2B96C425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347E-29FC-42FD-BACB-B447A81C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3EBB-1B49-4E7B-9552-F7169818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5CA1-0D6A-4E9A-AAFC-ACE9D847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95A3-5F1B-44A6-9E27-7D9FC3E3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F4F3-876D-4078-94D5-785A9DEC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42BF-C3C0-4574-B3D8-46DB1F4E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32CD-DEE4-45A3-AE63-3257211B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A735-EC67-461D-904B-87D37D9E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DF3D-F54D-4A37-88B1-F2CD6F9D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1F3F-D631-4938-937E-29DE76E7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A9EC-97BB-484B-AD62-C314C9A4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B85-516C-4755-A457-D3FD3001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4DE-9871-46ED-B0E0-40C46046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CE0-3285-4410-A966-E03BA7F6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FADC-63E9-44FB-8746-51E661A9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1519-0203-4D9C-B68D-925AB4A4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585-D3EF-4DCB-B851-E621DE40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293-28B4-49ED-8FF5-C46D4D7F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245C-8970-4F42-A5B3-CD9DA6FEB9B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BB61-05F3-498F-8ECC-90F0EAA123B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sourceforge.net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: Generic Genome Browser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ptember 2003 Updat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905" t="28856" r="2830" b="13655"/>
          <a:stretch/>
        </p:blipFill>
        <p:spPr>
          <a:xfrm>
            <a:off x="838080" y="1824120"/>
            <a:ext cx="7751880" cy="3738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Documentatio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ODified Documentatio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an pag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ext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HTM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ne-click web pag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llustrated tutoria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No database needed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Installation Helper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nbank2GFF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CSC2GFF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wo version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adfly2GFF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FF3 Suppor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Schema Enhancemen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hado support improv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ost (all?) performance issues resolved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io::DB::GFF improv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elete/update support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Update plugin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Other Notable Happening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B GBrowse” releas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ultiple data sourc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AS integration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n’s GBrowse”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ARC GBrows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losed loop system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redi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850040" y="1523880"/>
            <a:ext cx="23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CSH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uly Av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cott C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98640" y="2895480"/>
            <a:ext cx="25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BDG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hris Mung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engQiang S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7720" y="5938920"/>
            <a:ext cx="1523880" cy="536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71520" y="5973840"/>
            <a:ext cx="43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http://www.gmod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152388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aul Edelf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Robert Hub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92880" y="4375080"/>
            <a:ext cx="237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HGMP-RC Fug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awn Ho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6520" y="2927520"/>
            <a:ext cx="22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Else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Colis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Logg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Lincoln Stein</cp:lastModifiedBy>
  <cp:lastPrinted>1998-10-28T21:29:29Z</cp:lastPrinted>
  <dcterms:modified xsi:type="dcterms:W3CDTF">2003-09-15T15:49:54Z</dcterms:modified>
  <cp:revision>544</cp:revision>
  <dc:subject/>
  <dc:title>Training</dc:title>
</cp:coreProperties>
</file>